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Holly%20Jolly%20Christmas.wav" ContentType="audio/x-wav"/>
  <Override PartName="/ppt/media/image7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4DE-87AE-4B1F-BACE-D076EDCB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CC5-47AD-4E3F-8BBB-8CF8D0DA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FA2-759A-408A-B69E-FDCD44CC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353-3CC6-4694-8096-9DB2B494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A76-B901-4B92-AA4F-879092B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8E9-1E70-402F-AD4B-FCAE9261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6BD-029C-440C-BA49-0266FF2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297-BC18-45C6-BF10-5F010E4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998-413D-443D-89A1-6CECF8B3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AF2-F5E0-42C9-8B05-8B3D5AA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148-69F6-4BA6-9374-B8DA49B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648-12E5-4887-9BBC-5F11DAC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125-9B4F-4ABD-804F-A8DC28BC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lly%20Jolly%20Christma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20640"/>
            <a:ext cx="5689800" cy="26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lly jolly chrisma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855800" cy="347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88000" y="5589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ofía,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ésar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ndrea 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t’s the best time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  <p:sndAc>
      <p:stSnd>
        <p:snd r:embed="rId2" name="Holly%20Jolly%20Christma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on’t know if there’ll be s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have a cup of 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2664000"/>
            <a:ext cx="4824360" cy="368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hen you walk dow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280" y="3716280"/>
            <a:ext cx="2008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y hello to friends you  know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everyone you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52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694320" cy="427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91200" y="4653000"/>
            <a:ext cx="21528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07:00Z</dcterms:created>
  <dc:creator>pc10</dc:creator>
  <dc:description/>
  <dc:language>en-US</dc:language>
  <cp:lastModifiedBy>pc10</cp:lastModifiedBy>
  <dcterms:modified xsi:type="dcterms:W3CDTF">2011-12-19T11:33:05Z</dcterms:modified>
  <cp:revision>4</cp:revision>
  <dc:subject/>
  <dc:title>Diapositiva 1</dc:title>
</cp:coreProperties>
</file>